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C2D7B-3ABB-4D24-9CD6-B248D46E7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529D7-1C10-422C-908A-7F210A855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FC9AD-8375-44FF-8A50-B51CF8D29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65F31-0BB3-456D-A19D-000D08BFF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7EB072-390F-4404-B04A-71D7FF4788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6309C-8A00-43FA-8A3E-D7A10DBCF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FE48F-FB8E-4C0A-BAB4-44D53DB37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436197-03F3-4700-AC7C-0E018E08A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29241-2C74-4D97-9BF7-C72D28289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CD0E4-02B9-4CF1-BCAD-49C138629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8FDFE-8BBA-4501-9940-B083CE8D6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ED66E-5740-45F4-86F9-5E15EDDD5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B59B0-BB81-4FF8-B0F7-9A19EFC4D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535BA-885C-4B3E-8767-FAF9FC7FA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B858B-3026-4E0F-B628-9F76E131CE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2E3451-EEFE-4414-9215-B035FF0EBC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035C0E-C87C-477F-A95A-2316AA3766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B4FA9-6A01-4BA8-A0C7-259AA2ED0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75BC1-D1F9-4BF2-AA55-DA99248A1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FF46C-36AC-4888-8212-D48FBF334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F16F7-B278-43C9-AE85-DA54954DC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103DA-B132-4897-990D-660754898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4D30E-F98B-4447-999B-1CA1662A6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99D36-1EF8-41A4-88FC-B2DA8E7D9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48486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48486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3a3a56"/>
                </a:gs>
                <a:gs pos="100000">
                  <a:srgbClr val="48486a">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5d5d7b"/>
                </a:gs>
                <a:gs pos="100000">
                  <a:srgbClr val="48486a"/>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5d5d7b"/>
                </a:gs>
                <a:gs pos="100000">
                  <a:srgbClr val="48486a">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3a3a56"/>
                </a:gs>
                <a:gs pos="100000">
                  <a:srgbClr val="48486a">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5d5d7b"/>
                </a:gs>
                <a:gs pos="100000">
                  <a:srgbClr val="48486a">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8AAEB-3F2B-4057-9023-2079B127186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8f8"/>
                </a:solidFill>
                <a:latin typeface="Arial Black"/>
              </a:rPr>
              <a:t>Click to edit the title text format</a:t>
            </a:r>
            <a:endParaRPr b="1" lang="en-US" sz="4400" spc="-1" strike="noStrike">
              <a:solidFill>
                <a:srgbClr val="f8f8f8"/>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3d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3d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3d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48486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48486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3a3a56"/>
                </a:gs>
                <a:gs pos="100000">
                  <a:srgbClr val="48486a">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3a3a56"/>
                </a:gs>
                <a:gs pos="100000">
                  <a:srgbClr val="48486a">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5d5d7b"/>
                </a:gs>
                <a:gs pos="100000">
                  <a:srgbClr val="48486a">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5d5d7b"/>
                </a:gs>
                <a:gs pos="100000">
                  <a:srgbClr val="48486a">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8f8f8"/>
                </a:solidFill>
                <a:latin typeface="Arial Black"/>
              </a:rPr>
              <a:t>Click to edit the title text format</a:t>
            </a:r>
            <a:endParaRPr b="1" lang="en-US" sz="5400" spc="-1" strike="noStrike">
              <a:solidFill>
                <a:srgbClr val="f8f8f8"/>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21ECC-B7CE-4DDD-B936-461C56B511C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3dcc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00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3d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71640" y="170028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5400" spc="-1" strike="noStrike">
                <a:solidFill>
                  <a:srgbClr val="f8f8f8"/>
                </a:solidFill>
                <a:latin typeface="Arial Black"/>
              </a:rPr>
              <a:t>Unequal Distribution of Income.</a:t>
            </a:r>
            <a:endParaRPr b="1" lang="en-US" sz="5400" spc="-1" strike="noStrike">
              <a:solidFill>
                <a:srgbClr val="f8f8f8"/>
              </a:solidFill>
              <a:latin typeface="Arial Black"/>
            </a:endParaRPr>
          </a:p>
        </p:txBody>
      </p:sp>
      <p:sp>
        <p:nvSpPr>
          <p:cNvPr id="99" name="PlaceHolder 2"/>
          <p:cNvSpPr>
            <a:spLocks noGrp="1"/>
          </p:cNvSpPr>
          <p:nvPr>
            <p:ph type="subTitle"/>
          </p:nvPr>
        </p:nvSpPr>
        <p:spPr>
          <a:xfrm>
            <a:off x="971640" y="486900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y Edward Aches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476360" y="981000"/>
            <a:ext cx="6049800" cy="4799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8f8f8"/>
                </a:solidFill>
                <a:latin typeface="Arial Black"/>
              </a:rPr>
              <a:t>Lorenz Curve</a:t>
            </a:r>
            <a:endParaRPr b="1" lang="en-US" sz="4400" spc="-1" strike="noStrike">
              <a:solidFill>
                <a:srgbClr val="f8f8f8"/>
              </a:solidFill>
              <a:latin typeface="Arial Black"/>
            </a:endParaRPr>
          </a:p>
        </p:txBody>
      </p:sp>
      <p:sp>
        <p:nvSpPr>
          <p:cNvPr id="102" name=""/>
          <p:cNvSpPr/>
          <p:nvPr/>
        </p:nvSpPr>
        <p:spPr>
          <a:xfrm>
            <a:off x="2700360" y="2060640"/>
            <a:ext cx="0" cy="324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700360" y="5300640"/>
            <a:ext cx="32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V="1">
            <a:off x="2700360" y="2060640"/>
            <a:ext cx="3240000" cy="3240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2700360" y="2060640"/>
            <a:ext cx="3240000" cy="3271680"/>
          </a:xfrm>
          <a:custGeom>
            <a:avLst/>
            <a:gdLst/>
            <a:ahLst/>
            <a:rect l="l" t="t" r="r" b="b"/>
            <a:pathLst>
              <a:path w="2041" h="2061">
                <a:moveTo>
                  <a:pt x="0" y="2041"/>
                </a:moveTo>
                <a:lnTo>
                  <a:pt x="228" y="2061"/>
                </a:lnTo>
                <a:lnTo>
                  <a:pt x="547" y="2047"/>
                </a:lnTo>
                <a:lnTo>
                  <a:pt x="929" y="1957"/>
                </a:lnTo>
                <a:lnTo>
                  <a:pt x="1387" y="1755"/>
                </a:lnTo>
                <a:lnTo>
                  <a:pt x="1651" y="1457"/>
                </a:lnTo>
                <a:lnTo>
                  <a:pt x="1790" y="1159"/>
                </a:lnTo>
                <a:lnTo>
                  <a:pt x="1824" y="1068"/>
                </a:lnTo>
                <a:lnTo>
                  <a:pt x="1873" y="937"/>
                </a:lnTo>
                <a:lnTo>
                  <a:pt x="2005" y="444"/>
                </a:lnTo>
                <a:lnTo>
                  <a:pt x="2041" y="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1480320" y="2997360"/>
            <a:ext cx="454680" cy="1439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Unicode MS"/>
                <a:ea typeface="Arial Unicode MS"/>
              </a:rPr>
              <a:t>% of Income</a:t>
            </a:r>
            <a:endParaRPr b="0" lang="en-US" sz="1800" spc="-1" strike="noStrike">
              <a:solidFill>
                <a:srgbClr val="ffffff"/>
              </a:solidFill>
              <a:latin typeface="Arial"/>
            </a:endParaRPr>
          </a:p>
        </p:txBody>
      </p:sp>
      <p:sp>
        <p:nvSpPr>
          <p:cNvPr id="107" name=""/>
          <p:cNvSpPr/>
          <p:nvPr/>
        </p:nvSpPr>
        <p:spPr>
          <a:xfrm>
            <a:off x="3348000" y="6237360"/>
            <a:ext cx="20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Unicode MS"/>
                <a:ea typeface="Arial Unicode MS"/>
              </a:rPr>
              <a:t>% of Households</a:t>
            </a:r>
            <a:endParaRPr b="0" lang="en-US" sz="1800" spc="-1" strike="noStrike">
              <a:solidFill>
                <a:srgbClr val="ffffff"/>
              </a:solidFill>
              <a:latin typeface="Arial"/>
            </a:endParaRPr>
          </a:p>
        </p:txBody>
      </p:sp>
      <p:sp>
        <p:nvSpPr>
          <p:cNvPr id="108" name=""/>
          <p:cNvSpPr/>
          <p:nvPr/>
        </p:nvSpPr>
        <p:spPr>
          <a:xfrm>
            <a:off x="3203640" y="155736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Unicode MS"/>
                <a:ea typeface="Arial Unicode MS"/>
              </a:rPr>
              <a:t>Line of Perfect Equality</a:t>
            </a:r>
            <a:endParaRPr b="0" lang="en-US" sz="1800" spc="-1" strike="noStrike">
              <a:solidFill>
                <a:srgbClr val="ffffff"/>
              </a:solidFill>
              <a:latin typeface="Arial"/>
            </a:endParaRPr>
          </a:p>
        </p:txBody>
      </p:sp>
      <p:sp>
        <p:nvSpPr>
          <p:cNvPr id="109" name=""/>
          <p:cNvSpPr/>
          <p:nvPr/>
        </p:nvSpPr>
        <p:spPr>
          <a:xfrm>
            <a:off x="4427640" y="1989000"/>
            <a:ext cx="904680" cy="655920"/>
          </a:xfrm>
          <a:custGeom>
            <a:avLst/>
            <a:gdLst/>
            <a:ahLst/>
            <a:rect l="l" t="t" r="r" b="b"/>
            <a:pathLst>
              <a:path w="570" h="413">
                <a:moveTo>
                  <a:pt x="0" y="0"/>
                </a:moveTo>
                <a:lnTo>
                  <a:pt x="570" y="413"/>
                </a:ln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443640" y="2349360"/>
            <a:ext cx="252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Unicode MS"/>
                <a:ea typeface="Arial Unicode MS"/>
              </a:rPr>
              <a:t>Disposable Income Lorenz curve.</a:t>
            </a:r>
            <a:endParaRPr b="0" lang="en-US" sz="1800" spc="-1" strike="noStrike">
              <a:solidFill>
                <a:srgbClr val="ffffff"/>
              </a:solidFill>
              <a:latin typeface="Arial"/>
            </a:endParaRPr>
          </a:p>
        </p:txBody>
      </p:sp>
      <p:sp>
        <p:nvSpPr>
          <p:cNvPr id="111" name=""/>
          <p:cNvSpPr/>
          <p:nvPr/>
        </p:nvSpPr>
        <p:spPr>
          <a:xfrm>
            <a:off x="5796000" y="2781360"/>
            <a:ext cx="630360" cy="257040"/>
          </a:xfrm>
          <a:custGeom>
            <a:avLst/>
            <a:gdLst/>
            <a:ahLst/>
            <a:rect l="l" t="t" r="r" b="b"/>
            <a:pathLst>
              <a:path w="397" h="162">
                <a:moveTo>
                  <a:pt x="397" y="0"/>
                </a:moveTo>
                <a:lnTo>
                  <a:pt x="0" y="162"/>
                </a:ln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40360" y="2060640"/>
            <a:ext cx="0" cy="324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1979640" y="1916280"/>
            <a:ext cx="6476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Unicode MS"/>
                <a:ea typeface="Arial Unicode MS"/>
              </a:rPr>
              <a:t>100%</a:t>
            </a:r>
            <a:endParaRPr b="0" lang="en-US" sz="1400" spc="-1" strike="noStrike">
              <a:solidFill>
                <a:srgbClr val="ffffff"/>
              </a:solidFill>
              <a:latin typeface="Arial"/>
            </a:endParaRPr>
          </a:p>
        </p:txBody>
      </p:sp>
      <p:sp>
        <p:nvSpPr>
          <p:cNvPr id="114" name=""/>
          <p:cNvSpPr/>
          <p:nvPr/>
        </p:nvSpPr>
        <p:spPr>
          <a:xfrm>
            <a:off x="5796000" y="5373720"/>
            <a:ext cx="6476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Unicode MS"/>
                <a:ea typeface="Arial Unicode MS"/>
              </a:rPr>
              <a:t>100%</a:t>
            </a:r>
            <a:endParaRPr b="0" lang="en-US" sz="1400" spc="-1" strike="noStrike">
              <a:solidFill>
                <a:srgbClr val="ffffff"/>
              </a:solidFill>
              <a:latin typeface="Arial"/>
            </a:endParaRPr>
          </a:p>
        </p:txBody>
      </p:sp>
      <p:sp>
        <p:nvSpPr>
          <p:cNvPr id="115" name=""/>
          <p:cNvSpPr/>
          <p:nvPr/>
        </p:nvSpPr>
        <p:spPr>
          <a:xfrm>
            <a:off x="2340000" y="5373720"/>
            <a:ext cx="5763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Unicode MS"/>
                <a:ea typeface="Arial Unicode MS"/>
              </a:rPr>
              <a:t>0%</a:t>
            </a:r>
            <a:endParaRPr b="0" lang="en-US" sz="1400" spc="-1" strike="noStrike">
              <a:solidFill>
                <a:srgbClr val="ffffff"/>
              </a:solidFill>
              <a:latin typeface="Arial"/>
            </a:endParaRPr>
          </a:p>
        </p:txBody>
      </p:sp>
      <p:sp>
        <p:nvSpPr>
          <p:cNvPr id="116" name=""/>
          <p:cNvSpPr/>
          <p:nvPr/>
        </p:nvSpPr>
        <p:spPr>
          <a:xfrm>
            <a:off x="3419640" y="5229360"/>
            <a:ext cx="1440" cy="172800"/>
          </a:xfrm>
          <a:custGeom>
            <a:avLst/>
            <a:gdLst/>
            <a:ahLst/>
            <a:rect l="l" t="t" r="r" b="b"/>
            <a:pathLst>
              <a:path w="1" h="109">
                <a:moveTo>
                  <a:pt x="0" y="0"/>
                </a:moveTo>
                <a:lnTo>
                  <a:pt x="1" y="109"/>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292720" y="5229360"/>
            <a:ext cx="1440" cy="172800"/>
          </a:xfrm>
          <a:custGeom>
            <a:avLst/>
            <a:gdLst/>
            <a:ahLst/>
            <a:rect l="l" t="t" r="r" b="b"/>
            <a:pathLst>
              <a:path w="1" h="109">
                <a:moveTo>
                  <a:pt x="0" y="0"/>
                </a:moveTo>
                <a:lnTo>
                  <a:pt x="1" y="109"/>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4788000" y="5229360"/>
            <a:ext cx="4680" cy="171360"/>
          </a:xfrm>
          <a:custGeom>
            <a:avLst/>
            <a:gdLst/>
            <a:ahLst/>
            <a:rect l="l" t="t" r="r" b="b"/>
            <a:pathLst>
              <a:path w="3" h="108">
                <a:moveTo>
                  <a:pt x="3" y="0"/>
                </a:moveTo>
                <a:lnTo>
                  <a:pt x="0" y="10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4067280" y="5229360"/>
            <a:ext cx="1440" cy="171360"/>
          </a:xfrm>
          <a:custGeom>
            <a:avLst/>
            <a:gdLst/>
            <a:ahLst/>
            <a:rect l="l" t="t" r="r" b="b"/>
            <a:pathLst>
              <a:path w="1" h="108">
                <a:moveTo>
                  <a:pt x="1" y="0"/>
                </a:moveTo>
                <a:lnTo>
                  <a:pt x="0" y="10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2627280" y="465300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2627280" y="393372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2627280" y="321300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2627280" y="263700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4427640" y="6164280"/>
            <a:ext cx="36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4643280" y="6380280"/>
            <a:ext cx="36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1835280" y="4941720"/>
            <a:ext cx="72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8f8f8"/>
                </a:solidFill>
                <a:latin typeface="Arial Black"/>
              </a:rPr>
              <a:t>Explanation of Market Failure</a:t>
            </a:r>
            <a:endParaRPr b="1" lang="en-US" sz="4400" spc="-1" strike="noStrike">
              <a:solidFill>
                <a:srgbClr val="f8f8f8"/>
              </a:solidFill>
              <a:latin typeface="Arial Black"/>
            </a:endParaRPr>
          </a:p>
        </p:txBody>
      </p:sp>
      <p:sp>
        <p:nvSpPr>
          <p:cNvPr id="12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3d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Unequal Distribution of income illustrates an example of market failure because it creates inefficiency. This occurs because the majority of people who are earning a comparatively small amount become angry at the amount they are earning so do not work as efficiently. The people earning higher amounts become lazy and so also become less efficient. However this is not easily recognised and can only really be noticed due to government intervention when they try to control it to restore previous efficienc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22:17:05Z</dcterms:created>
  <dc:creator>achesonem</dc:creator>
  <dc:description/>
  <dc:language>en-US</dc:language>
  <cp:lastModifiedBy>achesonem</cp:lastModifiedBy>
  <dcterms:modified xsi:type="dcterms:W3CDTF">2008-07-28T01:56:38Z</dcterms:modified>
  <cp:revision>9</cp:revision>
  <dc:subject/>
  <dc:title>Unequal Distribution of Income.</dc:title>
</cp:coreProperties>
</file>